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1E3-6210-4D86-959F-2114E29E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C11-6D7D-48BB-A20D-E87A3A80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F40-4998-4EDD-A8E8-E030EED4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0CB-6413-4764-AE19-37F8FF48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71A9-E764-438A-8834-57EADC98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BE01-B5DA-49D3-8790-A9DDEC78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80C4-4231-499D-A47B-A31BC645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3233-628C-42D9-955A-5E7E330C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262D-98A5-4659-9214-E8A1F134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B658-BE38-4D5A-8037-EE8261C6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4EF4-5891-4051-A444-0FF714E5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47E-9269-4DFC-898D-7A4F0E5C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1F78-2BF5-4EBD-AF79-852B3A9E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B6EE-3339-4F87-9D37-16E27F5E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9B3D-B043-4DB6-99A4-8FCD139E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773A-F980-4142-9469-C33D388A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0586-0490-4945-BEEF-DAA92DE8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1ADF-6E62-4929-A411-150F3874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8B82-5C02-4946-B8C2-F1923F8C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3FA3-423E-4A54-A3CE-303CB424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C245-C57A-45D7-9569-64AAFEE6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D242-D893-4CCD-90E3-5C054955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EB6-9141-4A91-9C93-827CA021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F93E-28DC-4078-9307-DAB7792E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A466-B910-4AE5-89AE-51AACBEA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F034-483A-48A5-9A0A-A20A0AC2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F889-4788-4CE0-A168-EEDAD8BD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728E-FB21-4E25-970C-C3A129F0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EA70-3538-4D82-B0E0-74C1D064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2013-B152-4B03-B095-FEC537C1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180A-6478-4FAB-8AAE-C47BD773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7371-D92B-4F9C-8456-FA796ED9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6C29B-8B68-4E9C-9F78-ED9D2BE1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10B-5CE3-4CF8-B19B-BB42172C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FDBBE-286A-4AF1-AD3F-210E77B7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4BA9-FBB5-489B-ADA8-9F590672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EBB6-7321-40AD-A4D6-172ECBA0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81A5-E81F-4556-8C54-1474E95D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ACA76-0C6F-45A4-8C51-4D07AC14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DBFC-7805-42F9-98D2-43C5A962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79DEB-9D61-4D50-87A7-AA689E17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35911-2A01-4D6E-A46D-1F2A60A7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132B-ECB1-4CD0-93BB-A605A9B9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1423-203F-46AB-BF31-8865675A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F98-3BE5-464F-A80A-B98A6F13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75AF0-381E-4636-B2AE-C25C6129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38D0E-0188-400E-926A-421B5125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B6CE-E2F0-4C3E-BDAB-9EFB9A3B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863F0-AA90-47C3-8078-BA5CC489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4B7D2-244B-40EC-82D1-6B2D4242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D3831-8E2A-4102-A07D-F100C41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93530-E9EF-473A-AC2B-E90BEAB6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C53E4-0CCE-435A-A99B-A3B45ED9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CB71D-AEC4-4677-9691-1A4565BD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E694C-8F6C-473B-90AB-36A27B25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CDB-8E57-40DB-B84F-2073C7FF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0F4AA-AC10-49C1-BC61-7AF1BB95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00465-E0C3-4DF2-990F-5B6EDBF1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88FAF-B51E-40C4-BF5A-6E57D81C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FE06F-7F84-454A-9168-0531AAF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B06D-D77A-4F85-9DDF-93547633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790C5-2866-4C1B-971F-6553C3B7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690E0-0C72-48FE-9B97-7325F46C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3B0B8-EAFA-435B-8457-2A4652D7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4B808-784F-4DE5-9964-CE0A99D6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3F0A2-6FB5-459F-892D-4E3CABFE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4D9-8F1B-4C22-BC75-2C61FA8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16BC5-567D-45DF-B9C3-0B946473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87808-3AAC-4E01-B050-9064844C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37697-8656-4A28-BDDD-63D290B3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ADE98-A038-4D04-AE28-E8FE003C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AABB3-CD52-41D9-B78D-93265B36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4138C-0E5D-4C96-ACC7-B63DF6FC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0D465-DBE5-4B43-B7DC-76293BAE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CB7C1-5BEB-4B5B-8F06-5D84DE3C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0509-0558-4296-841F-AED22EC6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A9AF5-1D48-4EB7-97BB-36F9BC3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79C-DC09-4EE0-ABA0-725FB660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D7460-6A56-4E18-A336-E2CA5A32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2839D-0522-458B-9038-B189393E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3A2C4-179C-45D9-8B7B-6A20E8F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F6C39-5589-4BF4-851B-A9E40FF5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DD337-EE5B-4FE8-BF31-EA28F444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376-831D-4327-9415-BB7EACB9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331-8D00-41D2-82AD-5671129D2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501B-7873-4BBA-A495-FDF5F0BF3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8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9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97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98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1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4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07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10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13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16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19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22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25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28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31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34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37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0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43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46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49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52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55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58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63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66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69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72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75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78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1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84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87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90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93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5FEE-6F68-4A02-9A10-30704149738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3C9A-CE08-475B-B6B7-8CFE66939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C000-DD5B-4837-92B7-023416613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34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4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345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34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4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350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351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354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357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6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69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72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375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37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38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384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87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39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393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396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9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402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40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408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411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3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5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416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419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422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425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428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431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434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437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440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443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6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8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449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450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45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3A9-FF0E-41DC-BFA8-3F60F6ACD74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68D2-ADC3-4D3B-8B42-8C7448C4B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457200" y="38088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e1f08"/>
                </a:solidFill>
                <a:latin typeface="Arial"/>
                <a:ea typeface="隶书"/>
              </a:rPr>
              <a:t>第八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8"/>
          <p:cNvSpPr txBox="1"/>
          <p:nvPr/>
        </p:nvSpPr>
        <p:spPr>
          <a:xfrm>
            <a:off x="380880" y="2286000"/>
            <a:ext cx="84250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99"/>
              </a:avLst>
            </a:prstTxWarp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植物中水分、</a:t>
            </a:r>
            <a:endParaRPr b="0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干物质和灰分的测定</a:t>
            </a:r>
            <a:endParaRPr b="0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838080" y="1893600"/>
            <a:ext cx="7467840" cy="34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  ① 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风干植物样品的测定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称量容器烘干恒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取洁净的称量瓶或洁净的铝盒，放入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100-105℃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的恒温烘箱中烘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分钟，取出，盖好盖，转入盛有硅胶的干燥器中冷却至室温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约需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20-30min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取出，称量；再烘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30min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称量，两次称量之差小于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1mg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为恒重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1691280" y="685800"/>
            <a:ext cx="590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、测定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066680" y="838080"/>
            <a:ext cx="723924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样品烘干恒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取粉碎后混匀的风干样品约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3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，平铺于已恒重的称量瓶中，称取其准确质量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；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将盖子打开后，放于已升温至约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115℃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的烘箱中，关好烘箱门，调节温度在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100-105℃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，烘干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4-6h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取出，盖好盒盖，转入干燥器中冷却至室温、称量；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再烘干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，称量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d60093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直至前后两次质量差小于</a:t>
            </a:r>
            <a:r>
              <a:rPr b="1" lang="en-US" sz="2800" spc="-1" strike="noStrike">
                <a:solidFill>
                  <a:srgbClr val="d60093"/>
                </a:solidFill>
                <a:latin typeface="宋体"/>
              </a:rPr>
              <a:t>2mg</a:t>
            </a:r>
            <a:r>
              <a:rPr b="1" lang="zh-CN" sz="2800" spc="-1" strike="noStrike">
                <a:solidFill>
                  <a:srgbClr val="d60093"/>
                </a:solidFill>
                <a:latin typeface="宋体"/>
              </a:rPr>
              <a:t>，为恒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3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94"/>
            </a:gs>
            <a:gs pos="50000">
              <a:srgbClr val="000000"/>
            </a:gs>
            <a:gs pos="100000">
              <a:srgbClr val="3c00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"/>
          <p:cNvSpPr/>
          <p:nvPr/>
        </p:nvSpPr>
        <p:spPr>
          <a:xfrm>
            <a:off x="685800" y="1653840"/>
            <a:ext cx="79930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宋体"/>
              </a:rPr>
              <a:t>② 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新鲜植物样品中水分的测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取一小烧杯，放入约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5g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10g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干净的石英砂和一支小玻棒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水分不多时可不加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，移入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100-105℃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烘箱中烘至恒重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ffcc00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将新鲜样品约</a:t>
            </a: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5g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，于小烧杯中，与石英砂混匀后称量</a:t>
            </a: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ffff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将小烧杯和样品先在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50-60℃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干燥箱中鼓风干燥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3-4h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，中间可翻动样品两到三次，样品烘脆后，轻轻压碎，转入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100-105℃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不鼓风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烘约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3-4h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，冷却、称量。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再同法烘约</a:t>
            </a:r>
            <a:r>
              <a:rPr b="1" lang="en-US" sz="2800" spc="-1" strike="noStrike">
                <a:solidFill>
                  <a:srgbClr val="66ff33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，称量，至恒重</a:t>
            </a:r>
            <a:r>
              <a:rPr b="1" lang="en-US" sz="2800" spc="-1" strike="noStrike">
                <a:solidFill>
                  <a:srgbClr val="66ff33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ff33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2007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380880" y="829080"/>
            <a:ext cx="8352000" cy="44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ccff66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ccff66"/>
                </a:solidFill>
                <a:latin typeface="宋体"/>
              </a:rPr>
              <a:t>、结果计算：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ffccff"/>
                </a:solidFill>
                <a:latin typeface="宋体"/>
              </a:rPr>
              <a:t>水分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%=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/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*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ffccff"/>
                </a:solidFill>
                <a:latin typeface="宋体"/>
              </a:rPr>
              <a:t>干物质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%=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/(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-m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ffccff"/>
                </a:solidFill>
                <a:latin typeface="宋体"/>
              </a:rPr>
              <a:t>)*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式中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ccff66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称量瓶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或小烧杯加砂、玻棒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质量，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ccff66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风干样或鲜样及称量瓶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或小烧杯加砂、玻棒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总质量，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ccff66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烘干样及称量瓶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或小烧杯加砂、玻棒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的总质量，</a:t>
            </a:r>
            <a:r>
              <a:rPr b="1" lang="en-US" sz="2800" spc="-1" strike="noStrike">
                <a:solidFill>
                  <a:srgbClr val="ccff66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cc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533520" y="609480"/>
            <a:ext cx="8208720" cy="39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、石英砂的清洗方法：先用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摩尔的盐酸煮沸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0.5h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，水洗至中性，再用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摩尔的氢氧化钠煮沸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0.5h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，水洗至中性，烘干备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、 每次冷却的时间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ff99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ff99"/>
                </a:solidFill>
                <a:latin typeface="宋体"/>
              </a:rPr>
              <a:t>、 在空气湿度较大时，要注意称量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、 在新鲜样品测定中，注意混匀时不要造成样品、砂等的损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50000">
              <a:srgbClr val="003399"/>
            </a:gs>
            <a:gs pos="100000">
              <a:srgbClr val="0018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609480" y="2010600"/>
            <a:ext cx="79758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注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续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00ff99"/>
                </a:solidFill>
                <a:latin typeface="Arial"/>
              </a:rPr>
              <a:t>新鲜植物组织样品的含水量较高，不宜直接在</a:t>
            </a: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100℃</a:t>
            </a:r>
            <a:r>
              <a:rPr b="1" lang="zh-CN" sz="2800" spc="-1" strike="noStrike">
                <a:solidFill>
                  <a:srgbClr val="00ff99"/>
                </a:solidFill>
                <a:latin typeface="Arial"/>
              </a:rPr>
              <a:t>烘干。因为在高温条件下，表面组织容易快速干燥，形成干壳，导致内部组织的水分不易蒸发出来，烘干速度反而较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在常规分析中，水分的计算，习惯上都是以分析样为基础的，即多数为风干样。如需要新鲜植物的水分含量，一定注意，在采样后，样品制备的同时，取一部分样品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要有代表性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ccff"/>
                </a:solidFill>
                <a:latin typeface="Arial"/>
              </a:rPr>
              <a:t>测定水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3962520" y="720"/>
            <a:ext cx="5181480" cy="698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压恒温干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800000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4"/>
          <p:cNvSpPr/>
          <p:nvPr/>
        </p:nvSpPr>
        <p:spPr>
          <a:xfrm>
            <a:off x="1295280" y="2627280"/>
            <a:ext cx="704052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方法原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6ff99"/>
                </a:solidFill>
                <a:latin typeface="Arial"/>
              </a:rPr>
              <a:t>在减压下，水分的沸点降低，可使植物样品中的水分在较低的温度下蒸发，根据干燥前、后的质量差，计算水分含量。该法适用于含糖较多的样品，但不适用于含挥发性物质的样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3321000" y="404640"/>
            <a:ext cx="279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</a:rPr>
              <a:t>三、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380880" y="1492560"/>
            <a:ext cx="8498160" cy="39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、操作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取样品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-3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于已知恒重质量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铝盒中，打开盒盖，放入已预热至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0℃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真空干燥箱内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抽气减压至要求的压力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100-400kPa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调节温度至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50-60℃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。关闭抽气活塞，停止抽气。使干燥箱内保持一定的温度和压力，经一定时间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约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3-5h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后，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打开进气活塞，使空气经干燥装置后漫漫进入干燥箱内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进气速度不能过快，以免空气对流强烈而吹散已烘干的样品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，至箱内压力与大气压相平衡后，打开箱门，取出铝盒盖好，移入干燥器中冷却、称量。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再烘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h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，冷却、称量至恒重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5335920" y="143640"/>
            <a:ext cx="2586960" cy="930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99"/>
                </a:solidFill>
                <a:latin typeface="Arial"/>
              </a:rPr>
              <a:t>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1066680" y="914400"/>
            <a:ext cx="7056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、结果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%=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/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*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干物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%=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/(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*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宋体"/>
              </a:rPr>
              <a:t>式中</a:t>
            </a:r>
            <a:r>
              <a:rPr b="0" lang="zh-CN" sz="3200" spc="-1" strike="noStrike">
                <a:solidFill>
                  <a:srgbClr val="660033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铝盒的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风干样或鲜样加铝盒的总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烘干样加铝盒的总质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5335920" y="143640"/>
            <a:ext cx="2586960" cy="930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99"/>
                </a:solidFill>
                <a:latin typeface="Arial"/>
              </a:rPr>
              <a:t>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>
            <a:off x="762120" y="2797920"/>
            <a:ext cx="78390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、方法原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植物样品中的水分与甲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或二甲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起蒸馏，二者组成的共混物其沸点低于甲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110.8℃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水的沸点，可使样品中的水分在较低的温度下迅速蒸馏出来，收集溜出液于接受管中，由溜出水的体积计算样品中水分的含量。此法适用于含挥发性油和干性油等易氧化的油料植物样品，以及水分含量高的新鲜样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1873440" y="304920"/>
            <a:ext cx="366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四、蒸馏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6"/>
          <p:cNvSpPr/>
          <p:nvPr/>
        </p:nvSpPr>
        <p:spPr>
          <a:xfrm>
            <a:off x="6021360" y="49248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684360" y="1256040"/>
            <a:ext cx="8135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第八章 植物中水分、干物质和灰分的测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755640" y="3068640"/>
            <a:ext cx="8388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植物中水分和干物质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 植物中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380880" y="2863440"/>
            <a:ext cx="830592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洗净、烘干蒸馏装置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将蒸馏式水分测量装置的各部分用重铬酸钾洗液及水洗净、烘干，以防止测定时带入外来水分，或样品中的水以水滴的形式粘附于蒸馏器的内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蒸馏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安装蒸馏装置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准确称取剪碎、混匀的样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估计含水量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5ml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放入干燥的蒸馏瓶中，加入新蒸馏的甲苯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或二甲苯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5ml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使样品全部淹没。连接好接收管和冷凝管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严防漏气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从冷凝管的顶端加入适量的甲苯，将水分接收管装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723096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2002680" y="0"/>
            <a:ext cx="51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操作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914400" y="1295280"/>
            <a:ext cx="731520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蒸馏水分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打开冷凝水源、电源，以文火徐徐加热蒸馏瓶，使每秒钟溜出液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滴，待大部分水分蒸馏出来后，增大火力，使每秒的流出速度约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滴，直至接收管中水分的体积不在增加，且水液上层的甲苯溶液已澄清透明、不在浑浊时，关闭电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5"/>
          <p:cNvSpPr/>
          <p:nvPr/>
        </p:nvSpPr>
        <p:spPr>
          <a:xfrm>
            <a:off x="686916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2002680" y="0"/>
            <a:ext cx="51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操作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1042920" y="1773360"/>
            <a:ext cx="711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读取水的体积：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从冷凝管的顶端注入少量甲苯冲洗内壁上水滴，接收管内壁上的水滴可用附有小橡皮头的铜丝轻轻推入水液内。待接收管内溶液冷却至室温后，读取水的体积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(ml)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"/>
          <p:cNvSpPr/>
          <p:nvPr/>
        </p:nvSpPr>
        <p:spPr>
          <a:xfrm>
            <a:off x="722628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2002680" y="609480"/>
            <a:ext cx="51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操作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4"/>
          <p:cNvSpPr/>
          <p:nvPr/>
        </p:nvSpPr>
        <p:spPr>
          <a:xfrm>
            <a:off x="990720" y="2132640"/>
            <a:ext cx="716256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水分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%=(V*ρ)*m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宋体"/>
              </a:rPr>
              <a:t>-1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*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式中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:V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接收管中水的体积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水的密度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g/ml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样品质量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722628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2384640" y="993600"/>
            <a:ext cx="685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、结果计算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457200" y="685800"/>
            <a:ext cx="828036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蒸馏法测定水分的载体有许多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二甲苯的效果最好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需的时间最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水的回收率较高；甲苯次之。因甲苯、二甲苯为易燃物质；应注意防火。四氯乙烯的效果也较好，且不易燃烧，但毒性较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、蒸馏法测定水分的装置有两种，以迪安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斯塔克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(Dean-Stark)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装置较为简单实用，适合常规分析，但精密度较差，读数精度为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0.1ml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。巴尔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亚伍德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(Barr-Yarwood)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装置测量精度较高，适于精密分析，但装置准备较为复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"/>
          <p:cNvSpPr/>
          <p:nvPr/>
        </p:nvSpPr>
        <p:spPr>
          <a:xfrm>
            <a:off x="6716160" y="360"/>
            <a:ext cx="1293840" cy="689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蒸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4"/>
          <p:cNvSpPr/>
          <p:nvPr/>
        </p:nvSpPr>
        <p:spPr>
          <a:xfrm>
            <a:off x="762120" y="306792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概述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灰分是植物样品经灼烧后所残留的无机物质，主要是一些无机盐和氧化物。植物干物质中灰分的含量随植物种类、品种、器官、部位、生育期、生长环境及农业管理措施的不同而有一定的变动。一般含量范围在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%-7%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，平均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%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2147400" y="533520"/>
            <a:ext cx="4883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第二节  植物中灰分的测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4"/>
          <p:cNvSpPr/>
          <p:nvPr/>
        </p:nvSpPr>
        <p:spPr>
          <a:xfrm>
            <a:off x="914400" y="1447920"/>
            <a:ext cx="734364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测定灰分的含量，可了解各种植物在不同生育期和不同器官中养分吸收和积累状况，以及土壤、施肥、气候、栽培管理等因素对植物灰分含量变化的影响。也是农产品和其加工产品的品质检测项目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4"/>
          <p:cNvSpPr/>
          <p:nvPr/>
        </p:nvSpPr>
        <p:spPr>
          <a:xfrm>
            <a:off x="304920" y="1984320"/>
            <a:ext cx="838188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方法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植物样品经低温炭化和高温灼烧，水分及有机质被蒸发或氧化气化，最后剩余不可燃部分为灰分元素的氧化物或无机盐，称量后可计算灰分的含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由于灰分中含有未烧净的炭粒、样品上附着的尘土、及灰分中成分有所改变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碳酸盐增加，氯化物和硝酸盐损失，有机磷和有机硫转变为磷酸盐和硫酸盐等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因此测定出的灰分常称为粗灰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1139760" y="533520"/>
            <a:ext cx="28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灰分的测定：灼烧重量法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6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4"/>
          <p:cNvSpPr/>
          <p:nvPr/>
        </p:nvSpPr>
        <p:spPr>
          <a:xfrm>
            <a:off x="990720" y="1295280"/>
            <a:ext cx="711360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灼烧的温度和升温速度对灰分的残留量有一定的影响。常规测定温度一般控制在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25℃±25℃(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国家标准为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50-600℃)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。温度过高和升温速度过快，会引起部分钾、钠的氯化物挥发损失；也会导致钾、钠的磷酸盐和硅酸盐熔融将部分炭粒包裹，使炭粒烧不尽；由于快速升温引起的空气对流会造成样品微粒飞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960920" y="533520"/>
            <a:ext cx="94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方法原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6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4"/>
          <p:cNvSpPr/>
          <p:nvPr/>
        </p:nvSpPr>
        <p:spPr>
          <a:xfrm>
            <a:off x="685800" y="3262680"/>
            <a:ext cx="7513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于含磷、硫、氯较多的样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籽粒、香辛类蔬菜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为防止这些元素的损失，常加入一定量的金属钙、镁盐将其固定后再炭化，一般是定量加入醋酸镁的乙醇溶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浓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g/L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将样品湿润，同时加入等量的溶液做空白试验，校正加入的金属盐量。也可定量加入饱和石灰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1884600" y="380880"/>
            <a:ext cx="94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方法原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8600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685800" y="2359080"/>
            <a:ext cx="799164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植物中含水量的多少是反映植物生理状态和成熟度的一个指标；含水量适宜植物才能生长健壮，光合效率高，干物质积累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新鲜植物体的含水量在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70-95%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之间，以幼叶为最，茎杆略低，以成熟籽粒含水量最少，一般在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5-15%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植物除去水分后的剩余部分为干物质，干物质中有机物质占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90-95%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矿物质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-10%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即灰分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1144800" y="380880"/>
            <a:ext cx="91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概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4"/>
          <p:cNvSpPr/>
          <p:nvPr/>
        </p:nvSpPr>
        <p:spPr>
          <a:xfrm>
            <a:off x="1143000" y="2816280"/>
            <a:ext cx="66913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将标有号码的适宜大小的瓷坩埚在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600℃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高温电炉中灼烧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0.5h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，冷却至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200℃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以下后取出，放入干燥器中冷却至室温，称量；再次灼烧、冷却称量，直至恒重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记录质量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0033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2303640" y="876240"/>
            <a:ext cx="23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二、操作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4"/>
          <p:cNvSpPr/>
          <p:nvPr/>
        </p:nvSpPr>
        <p:spPr>
          <a:xfrm>
            <a:off x="609480" y="1523880"/>
            <a:ext cx="77774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称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.000-3.000g(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磨细混匀的风干样品于已知恒重质量的坩埚中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-2ml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乙醇溶液使样品湿润，有利于样品的均匀灰化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将坩埚放在调温电炉上，坩埚盖斜放，调节电炉温度，使样品缓缓加热炭化，至烟冒尽时，将坩埚移入高温电炉中，加热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25℃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保持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-2h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，至灰分呈灰白色，无黑色炭粒为止。待冷却至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00℃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以下时，取出坩埚、移入干燥器中，冷却至室温称量。重复灼烧至前后两次称量相差小于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0.5mg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为恒重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(m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2633400" y="685800"/>
            <a:ext cx="23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二、操作步骤（续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914400" y="1944360"/>
            <a:ext cx="739152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灰分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%=(m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宋体"/>
              </a:rPr>
              <a:t>3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- m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)*m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宋体"/>
              </a:rPr>
              <a:t>2</a:t>
            </a:r>
            <a:r>
              <a:rPr b="1" lang="en-US" sz="4000" spc="-1" strike="noStrike" baseline="30000">
                <a:solidFill>
                  <a:srgbClr val="006600"/>
                </a:solidFill>
                <a:latin typeface="宋体"/>
              </a:rPr>
              <a:t>-1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*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式中：  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坩埚质量，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         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样品质量，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         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m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坩埚和灰分的质量，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g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2409480" y="706320"/>
            <a:ext cx="23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三、结果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4"/>
          <p:cNvSpPr/>
          <p:nvPr/>
        </p:nvSpPr>
        <p:spPr>
          <a:xfrm>
            <a:off x="990720" y="1219320"/>
            <a:ext cx="734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、新坩埚使用前须在稀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HCl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中煮沸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小时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除去可溶性无机盐和瓷釉上附着的杂质等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再用自来水、蒸馏水冲洗洁净后，烘干，再于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600℃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下灼烧恒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坩埚和盖上编号可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与蓝黑墨水的混合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Fe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浓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g/L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编号后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00℃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高温电炉中灼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.5h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即留有不易脱落的砖红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痕迹号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此号码在盐酸中浸泡较易消色，须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"/>
          <p:cNvSpPr/>
          <p:nvPr/>
        </p:nvSpPr>
        <p:spPr>
          <a:xfrm>
            <a:off x="4800600" y="0"/>
            <a:ext cx="4343400" cy="732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灰分的测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071080" y="468360"/>
            <a:ext cx="186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5"/>
          <p:cNvSpPr txBox="1"/>
          <p:nvPr/>
        </p:nvSpPr>
        <p:spPr>
          <a:xfrm>
            <a:off x="1258920" y="2060640"/>
            <a:ext cx="648180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本章内容结束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1143000" y="1295280"/>
            <a:ext cx="712800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ffff"/>
                </a:solidFill>
                <a:latin typeface="Arial"/>
              </a:rPr>
              <a:t>水分含量也是农产品品质检测和判断其是否适于贮存的重要指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由于植物样品的含水量波动较大，且风干样品的含水量也会受环境湿度和温度的影响，为保证样品成分分析结果的稳定，成分含量一般以干基计算，需要测定水分含量进行换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4"/>
          <p:cNvSpPr/>
          <p:nvPr/>
        </p:nvSpPr>
        <p:spPr>
          <a:xfrm>
            <a:off x="1562040" y="457200"/>
            <a:ext cx="546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华文楷体"/>
                <a:ea typeface="华文楷体"/>
              </a:rPr>
              <a:t>第一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华文楷体"/>
                <a:ea typeface="华文楷体"/>
              </a:rPr>
              <a:t> </a:t>
            </a:r>
            <a:r>
              <a:rPr b="1" lang="zh-CN" sz="5400" spc="-1" strike="noStrike">
                <a:solidFill>
                  <a:srgbClr val="00ff00"/>
                </a:solidFill>
                <a:latin typeface="华文楷体"/>
                <a:ea typeface="华文楷体"/>
              </a:rPr>
              <a:t>植物中水分和干物质的测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1981080" y="2286000"/>
            <a:ext cx="5257800" cy="36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、测定方法的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、常压恒温干燥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99ff33"/>
                </a:solidFill>
                <a:latin typeface="Arial"/>
              </a:rPr>
              <a:t>三、减压干燥法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四、蒸馏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611280" y="2567160"/>
            <a:ext cx="8064360" cy="24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植物中水分的测定方法较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常用方法有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常压恒温干燥法、减压干燥法、蒸馏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此外还有： 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红外干燥法、冷冻干燥法、微波衰减法、中子法、和卡尔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费休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(Karl  Fischer)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滴定法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这些方法都需要特殊仪器设备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1711080" y="625320"/>
            <a:ext cx="301824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、测定方法的选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457200" y="2252520"/>
            <a:ext cx="82821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常压恒温干燥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使用最普遍，其测定方法简单、准确度较高，适用于不含易挥发成分和热分解成分的样品，是测定水分的标准方法之一；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但对于幼嫩植物组织、含糖、含挥发油的样品则不适用，容易产生较大误差或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28"/>
          <p:cNvSpPr/>
          <p:nvPr/>
        </p:nvSpPr>
        <p:spPr>
          <a:xfrm>
            <a:off x="609480" y="533520"/>
            <a:ext cx="815364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ffff"/>
                </a:solidFill>
                <a:latin typeface="隶书"/>
                <a:ea typeface="隶书"/>
              </a:rPr>
              <a:t>减压干燥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适用于含易热解成分的样品，如含糖较多的样品，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但不适于测定含有挥发油成分的样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蒸馏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适合于测定含水量较高的样品，如水果、蔬菜等；同时也适于测定含有挥发油和干性油的样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a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"/>
          <p:cNvSpPr/>
          <p:nvPr/>
        </p:nvSpPr>
        <p:spPr>
          <a:xfrm>
            <a:off x="533520" y="1902240"/>
            <a:ext cx="8153280" cy="37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方法原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植物样品在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00-105℃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烘箱中烘干，通过样品的失重量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水分量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，计算水分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品在烘干过程中，可能有部分易焦化、分解和挥发的成分损失而产生正误差；也可能因水分未完全驱除或在冷却、称量过程中吸湿，或因部分不饱和脂肪被氧化产生增重，而产生负误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6ffff"/>
                </a:solidFill>
                <a:latin typeface="Arial"/>
              </a:rPr>
              <a:t>本法是测定植物水分的标准方法之一，应严格控制操作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4309560" y="380880"/>
            <a:ext cx="23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二、常压恒温干燥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8:04:04Z</dcterms:created>
  <dc:creator>ysx</dc:creator>
  <dc:description/>
  <dc:language>en-US</dc:language>
  <cp:lastModifiedBy>sxyang</cp:lastModifiedBy>
  <dcterms:modified xsi:type="dcterms:W3CDTF">2019-02-25T00:36:05Z</dcterms:modified>
  <cp:revision>13</cp:revision>
  <dc:subject/>
  <dc:title>幻灯片 1</dc:title>
</cp:coreProperties>
</file>